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35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5FA2-392E-4AB1-88DE-268CFA7610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8D97-3394-4448-A27C-B614E7B60C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16E1-94E1-499E-BDCA-791E3F27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F926-7177-4CCA-87EC-EE317740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F266-C31C-4C67-B0E6-E740BBF2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8859-57D1-41BD-B629-D0714406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5356-544C-416A-9587-A1CD3DA7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E116-1A81-4134-A88F-09AF8680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81E6-FD93-4FCB-8825-4AB925C7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600F-7A01-497C-8491-B08DB0E4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6F43-F964-42FF-B107-CC85A545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F975-7A37-458C-A6A7-2F19139D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260D-D856-4996-AD8D-BEC21029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886F-C1EA-41AF-9459-F59911A5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70D2-E290-4DA3-B066-2F3EFF4E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531B-FE7C-47B5-9688-5DB953EC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8E65-FECD-45F9-9246-581D582A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F78D-83AD-4DA7-B3AF-7FA98F91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6019-A9E8-4455-99CE-262DC02F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D50E-3A91-42E5-84A0-C36722DF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5BE4-B4CD-4033-9972-7E74B658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524D-61E0-4E6E-97C6-300C0FA3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53E0-1B83-4BE6-A3E8-7CBCD23F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D92A-C66B-45DC-8FAD-A1B79C87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A4BD-ACA3-434E-A1E0-DD1DBC32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8BBF-BA77-4132-A2B4-A97B0F66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08DC-C71A-4334-A776-354AC8D8EA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6C38-6BD8-4729-8F3B-C3BDF816E0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«Война, война, война…»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неклассное мероприят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вященное 80-летию Побе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Великой Отечественной вой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315_"/>
          <p:cNvPicPr/>
          <p:nvPr/>
        </p:nvPicPr>
        <p:blipFill>
          <a:blip r:embed="rId1"/>
          <a:stretch/>
        </p:blipFill>
        <p:spPr>
          <a:xfrm>
            <a:off x="1295280" y="1143000"/>
            <a:ext cx="6400800" cy="5032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87720" y="303840"/>
            <a:ext cx="846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Бронепоезд, построенный на ВПВРЗ в декабре 1941 год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319"/>
          <p:cNvPicPr/>
          <p:nvPr/>
        </p:nvPicPr>
        <p:blipFill>
          <a:blip r:embed="rId1"/>
          <a:stretch/>
        </p:blipFill>
        <p:spPr>
          <a:xfrm>
            <a:off x="304920" y="1687680"/>
            <a:ext cx="8534160" cy="51703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457200" y="152280"/>
            <a:ext cx="82296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Бомбардировщик «Юнкерс-88», сбитый летчиком-истребителем А. Н. Годовиковым 29 декабря 1941 года в бою над станцией Суда. Этот первый сбитый в вологодском небе вражеский самолет сфотографирован на месте падения. В верхнюю часть снимка вмонтирован портрет А. Н. Годовикова в кабине истребител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.. железная дорога во время Великой Отечественн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й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5" descr="i?id=fe7b94153b910db6de6098be02d06647&amp;n=33&amp;h=190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091020105577"/>
          <p:cNvPicPr/>
          <p:nvPr/>
        </p:nvPicPr>
        <p:blipFill>
          <a:blip r:embed="rId1"/>
          <a:stretch/>
        </p:blipFill>
        <p:spPr>
          <a:xfrm>
            <a:off x="1905120" y="0"/>
            <a:ext cx="4822560" cy="3621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i?id=da3cac11dcb839aad5fb438debf32455&amp;n=33&amp;h=190"/>
          <p:cNvPicPr/>
          <p:nvPr/>
        </p:nvPicPr>
        <p:blipFill>
          <a:blip r:embed="rId2"/>
          <a:stretch/>
        </p:blipFill>
        <p:spPr>
          <a:xfrm>
            <a:off x="4800600" y="3618000"/>
            <a:ext cx="4343400" cy="2816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i?id=a7fe3674bfee3156680ff2a7d90fadab&amp;n=33&amp;h=190"/>
          <p:cNvPicPr/>
          <p:nvPr/>
        </p:nvPicPr>
        <p:blipFill>
          <a:blip r:embed="rId3"/>
          <a:stretch/>
        </p:blipFill>
        <p:spPr>
          <a:xfrm>
            <a:off x="228600" y="3581280"/>
            <a:ext cx="411480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Monument_on_Vvedenskoe_cemetery_in_Vologda"/>
          <p:cNvPicPr/>
          <p:nvPr/>
        </p:nvPicPr>
        <p:blipFill>
          <a:blip r:embed="rId2"/>
          <a:stretch/>
        </p:blipFill>
        <p:spPr>
          <a:xfrm>
            <a:off x="609480" y="304920"/>
            <a:ext cx="4496040" cy="2997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5410080" y="11426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елиск солдатам-защитникам Роди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5410080" y="612360"/>
            <a:ext cx="2683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7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веденское кладбищ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1523880" y="4891680"/>
            <a:ext cx="312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шехонское кладбищ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мориал ленинградцам-блокадникам, умершим в Вологодской област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20" descr="Вологжане почтили память героев блокадного Ленинграда"/>
          <p:cNvPicPr/>
          <p:nvPr/>
        </p:nvPicPr>
        <p:blipFill>
          <a:blip r:embed="rId3"/>
          <a:stretch/>
        </p:blipFill>
        <p:spPr>
          <a:xfrm>
            <a:off x="4800600" y="35053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1" descr="28 августа 1988 года на Пошехонском кладбище состоялось торжественное открытие мемориала эвакуированным ленинградцам, умершим в Вологодской области "/>
          <p:cNvPicPr/>
          <p:nvPr/>
        </p:nvPicPr>
        <p:blipFill>
          <a:blip r:embed="rId4"/>
          <a:stretch/>
        </p:blipFill>
        <p:spPr>
          <a:xfrm>
            <a:off x="6095880" y="2895480"/>
            <a:ext cx="27910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Весной 1942 года из Ленинграда было вывезено 554 186 человек. Через Вологду прошло 215 эшелонов, в которых проследовали 186 287 человек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i?id=59551554d776e5f76cfc727dc59187dc&amp;n=33&amp;h=190"/>
          <p:cNvPicPr/>
          <p:nvPr/>
        </p:nvPicPr>
        <p:blipFill>
          <a:blip r:embed="rId1"/>
          <a:stretch/>
        </p:blipFill>
        <p:spPr>
          <a:xfrm>
            <a:off x="1676520" y="1981080"/>
            <a:ext cx="5715000" cy="4224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609480" y="71568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лагерях, находившихся на территории Вологодской области (в Череповце, Вологде, Соколе…) содержалось не менее 60 тысяч военнопленных солдат вермахт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328_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46641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2666880" y="5105160"/>
            <a:ext cx="4724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Этот дом № 20 на улице Беляева вологжане называют «немецким» и считают, что его построили пленные. Фотография 1956 год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Герои Советского Союза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77" name="Picture 6" descr="Артемьев Николай Михайлович"/>
          <p:cNvPicPr/>
          <p:nvPr/>
        </p:nvPicPr>
        <p:blipFill>
          <a:blip r:embed="rId1"/>
          <a:stretch/>
        </p:blipFill>
        <p:spPr>
          <a:xfrm>
            <a:off x="304920" y="762120"/>
            <a:ext cx="1253880" cy="1752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152280" y="2667240"/>
            <a:ext cx="1600200" cy="982080"/>
          </a:xfrm>
          <a:prstGeom prst="rect">
            <a:avLst/>
          </a:prstGeom>
          <a:solidFill>
            <a:srgbClr val="f1f2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ртемьев Николай Михайлови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3657600" y="266688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югин Иван Максимови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11" descr="S120xU"/>
          <p:cNvPicPr/>
          <p:nvPr/>
        </p:nvPicPr>
        <p:blipFill>
          <a:blip r:embed="rId2"/>
          <a:stretch/>
        </p:blipFill>
        <p:spPr>
          <a:xfrm>
            <a:off x="2133720" y="762120"/>
            <a:ext cx="1193760" cy="17524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1905120" y="26665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узнецов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ексей Кириллови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80880" y="5790960"/>
            <a:ext cx="1981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уев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ван Панкратьевич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15" descr="Матюгин Иван Максимович"/>
          <p:cNvPicPr/>
          <p:nvPr/>
        </p:nvPicPr>
        <p:blipFill>
          <a:blip r:embed="rId3"/>
          <a:stretch/>
        </p:blipFill>
        <p:spPr>
          <a:xfrm>
            <a:off x="3809880" y="838080"/>
            <a:ext cx="1170000" cy="16765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6"/>
          <p:cNvSpPr/>
          <p:nvPr/>
        </p:nvSpPr>
        <p:spPr>
          <a:xfrm>
            <a:off x="2590920" y="565380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гозин Владимир Александрович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6858000" y="579096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ватов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ван Александрович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19" descr="Хватов Иван Александрович"/>
          <p:cNvPicPr/>
          <p:nvPr/>
        </p:nvPicPr>
        <p:blipFill>
          <a:blip r:embed="rId4"/>
          <a:stretch/>
        </p:blipFill>
        <p:spPr>
          <a:xfrm>
            <a:off x="7086600" y="3809880"/>
            <a:ext cx="1359000" cy="1828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5"/>
          <a:stretch/>
        </p:blipFill>
        <p:spPr>
          <a:xfrm>
            <a:off x="609480" y="3886200"/>
            <a:ext cx="157176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6"/>
          <a:stretch/>
        </p:blipFill>
        <p:spPr>
          <a:xfrm>
            <a:off x="2895480" y="3809880"/>
            <a:ext cx="1295640" cy="1752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"/>
          <p:cNvPicPr/>
          <p:nvPr/>
        </p:nvPicPr>
        <p:blipFill>
          <a:blip r:embed="rId7"/>
          <a:stretch/>
        </p:blipFill>
        <p:spPr>
          <a:xfrm>
            <a:off x="4952880" y="3809880"/>
            <a:ext cx="1406520" cy="1752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3"/>
          <p:cNvSpPr/>
          <p:nvPr/>
        </p:nvSpPr>
        <p:spPr>
          <a:xfrm>
            <a:off x="4800600" y="579096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агалов Анатолий Валерианович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4" descr=""/>
          <p:cNvPicPr/>
          <p:nvPr/>
        </p:nvPicPr>
        <p:blipFill>
          <a:blip r:embed="rId8"/>
          <a:stretch/>
        </p:blipFill>
        <p:spPr>
          <a:xfrm>
            <a:off x="5486400" y="838080"/>
            <a:ext cx="1255680" cy="16765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5"/>
          <p:cNvSpPr/>
          <p:nvPr/>
        </p:nvSpPr>
        <p:spPr>
          <a:xfrm>
            <a:off x="5410080" y="26665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етинин Николай Иванович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27" descr="Дидок Яков Терентьевич"/>
          <p:cNvPicPr/>
          <p:nvPr/>
        </p:nvPicPr>
        <p:blipFill>
          <a:blip r:embed="rId9"/>
          <a:stretch/>
        </p:blipFill>
        <p:spPr>
          <a:xfrm>
            <a:off x="7238880" y="762120"/>
            <a:ext cx="1327320" cy="1828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8"/>
          <p:cNvSpPr/>
          <p:nvPr/>
        </p:nvSpPr>
        <p:spPr>
          <a:xfrm>
            <a:off x="7162920" y="26665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едо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ков Тимофеевич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905120" y="44028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ные кавалеры ордена Слав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446560" cy="29815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1143000" y="48751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ужкин Александр Федорович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2563560" cy="2971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410080" y="4875480"/>
            <a:ext cx="2438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каро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встафий Павлович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вященная война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905120" y="1904400"/>
            <a:ext cx="56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Минута молчания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Звук  метронома" descr=""/>
          <p:cNvPicPr/>
          <p:nvPr/>
        </p:nvPicPr>
        <p:blipFill>
          <a:blip r:embed="rId1"/>
          <a:stretch/>
        </p:blipFill>
        <p:spPr>
          <a:xfrm>
            <a:off x="7391520" y="528804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i?id=9a1f02fccce557ae09bb92014ec4651c&amp;n=33&amp;h=150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15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Победа!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04" name="Сообщение об окончании войны" descr=""/>
          <p:cNvPicPr/>
          <p:nvPr/>
        </p:nvPicPr>
        <p:blipFill>
          <a:blip r:embed="rId2"/>
          <a:stretch/>
        </p:blipFill>
        <p:spPr>
          <a:xfrm>
            <a:off x="8001000" y="60580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Monotype Corsiva"/>
              </a:rPr>
              <a:t>День  Победы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нь Победы, как он бы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нас далек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в костре потухшем таял уголе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ли версты, обгорелые, в пыли,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день мы приближал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мог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пев:    Этот День Побед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Порохом пропа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Это праздн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С сединою на виск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Это рад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Со слезами на глаз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День Победы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День Победы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День Победы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ни и ночи у мартеновских печ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мыкала наша Родина оч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ни и ночи битву трудную вели 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день мы приближали как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гл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пе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равствуй, мама, возвратилис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не все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сиком бы пробежаться по росе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-Европы прошагали, полземли,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день мы приближали ка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г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пе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День Победы" descr=""/>
          <p:cNvPicPr/>
          <p:nvPr/>
        </p:nvPicPr>
        <p:blipFill>
          <a:blip r:embed="rId1"/>
          <a:stretch/>
        </p:blipFill>
        <p:spPr>
          <a:xfrm>
            <a:off x="7696080" y="5943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389796280_1389752751_019"/>
          <p:cNvPicPr/>
          <p:nvPr/>
        </p:nvPicPr>
        <p:blipFill>
          <a:blip r:embed="rId1"/>
          <a:stretch/>
        </p:blipFill>
        <p:spPr>
          <a:xfrm>
            <a:off x="152280" y="228600"/>
            <a:ext cx="88362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1942_1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138" name="Взрыва гранат, пулемётная очередь" descr=""/>
          <p:cNvPicPr/>
          <p:nvPr/>
        </p:nvPicPr>
        <p:blipFill>
          <a:blip r:embed="rId2"/>
          <a:stretch/>
        </p:blipFill>
        <p:spPr>
          <a:xfrm>
            <a:off x="7620120" y="5562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vov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46-570x381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Вологда в годы Великой Отечественной войны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2" name="Picture 12" descr="i?id=b186d552bf2ddf70f3a02940eb2758ba&amp;n=33&amp;h=190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618480" y="5866200"/>
            <a:ext cx="80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оком захвата Вологды объявлялся май 1942 год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5d8d8805567fcfef47acaea0d41f74f7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9295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"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ологда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 прифронтовая"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74147162_3419483_hospital61023"/>
          <p:cNvPicPr/>
          <p:nvPr/>
        </p:nvPicPr>
        <p:blipFill>
          <a:blip r:embed="rId1"/>
          <a:stretch/>
        </p:blipFill>
        <p:spPr>
          <a:xfrm>
            <a:off x="0" y="0"/>
            <a:ext cx="5791320" cy="3797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168840" y="3351960"/>
            <a:ext cx="3897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енн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анитарный поезд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1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7" descr="i?id=1d24a0a017fc3fa80ff36c6885db0b16&amp;n=33&amp;h=190"/>
          <p:cNvPicPr/>
          <p:nvPr/>
        </p:nvPicPr>
        <p:blipFill>
          <a:blip r:embed="rId2"/>
          <a:stretch/>
        </p:blipFill>
        <p:spPr>
          <a:xfrm>
            <a:off x="5334120" y="4164120"/>
            <a:ext cx="3657600" cy="2492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1828800" y="51055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чный состав сформированного в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логд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П-312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тограф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194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i_085"/>
          <p:cNvPicPr/>
          <p:nvPr/>
        </p:nvPicPr>
        <p:blipFill>
          <a:blip r:embed="rId1"/>
          <a:stretch/>
        </p:blipFill>
        <p:spPr>
          <a:xfrm>
            <a:off x="380880" y="533520"/>
            <a:ext cx="8344080" cy="50259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2712960" y="5866560"/>
            <a:ext cx="397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емонтны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летучк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garita Provorova</cp:lastModifiedBy>
  <dcterms:modified xsi:type="dcterms:W3CDTF">2025-04-28T19:01:2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